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A48-3FBD-4A94-9A1F-A9CC99EA6D2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6F2-8E4C-4E5A-8F7F-3C10F4D5CC1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0861-1072-4CF5-80FA-B19B21F96C7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317-DDCE-4D35-B641-12AE4F34E14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1322-498C-4056-A01A-611A5C26C86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FCDD-17C6-43B7-AE7D-AECA2E82436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9A7-DD98-44F6-A20D-C3A5621852B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AB10-A3B4-472E-B055-9926F671A20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96BA-CE65-4A15-8170-FAB2E9F1A20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1FA8-B913-4171-9A12-B4C999E0262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622A-D1A0-4727-A0FB-EBCE582E2CE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905B-41B9-4DE5-A256-2482A399532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35B8-CDDE-4D54-9DAC-ECDAA5E8CCE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54F3-0FEC-461A-BDA6-491A83756B0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6A8A-6BC5-496B-AA38-EBAE69B7B1D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447F-AA2F-49A3-AA90-F64FCEED7A0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C03D-C579-425A-A2B7-D0D01A16DB3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A15E-DDC0-48F7-8BC6-3A53A4B9911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508E-B6EC-4987-A146-F286671C6D1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533-A1B5-4BA5-B9C1-33FE9757659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E64-67FB-4FB7-9F82-CBD7AFB1E16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E62-2BC5-4E81-8085-11309E65A8F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B46-0105-4CA6-B4FD-428B6A23183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C083-9F0E-4259-B66C-6211EBDC613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B6BA-D80F-437C-AC98-729F7B94187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F3A-9FEC-42E5-BB1D-0A7CF706845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579-DDBF-461A-B103-A865ADDFB74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E87-8BD0-4F0F-A367-5FFE1F2E516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6D83-E374-4B27-A613-FCC6F1D63E6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B7AC-1D8B-404B-9B3C-55FB2529F0A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F9C3-9078-4181-9F28-F9235294463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C020-BDE6-4CE4-ADAB-ED3B972B461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CE3C-B395-474C-BB66-38A51F48668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3A1-56E0-4424-BC8A-37DBC5C65EFF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C14-9878-42B6-A252-0C0792C7F320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05F-CDD2-4CB0-9C14-49688CAF668C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96F2-C878-48D2-B089-238853FA2390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6D00-0050-41EC-96C7-7FA3D8FB78E1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B2A-F487-46A5-A8BF-DDF289211DF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748-1725-4EC8-BF3E-902F5E049D04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99B2-D692-4D6E-AEF9-FBA725C845C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A64-CD1D-4A4C-A60B-A66803E814B6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A40-C3A4-4482-920F-DAD5E480AEE3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F542-A956-4CD3-A570-BD5245A14274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B4D0-52F9-468C-B297-D343CC0B2092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F5AC-C1CB-4BB0-9745-A1821D1EA12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FCD-9175-4568-B58E-5CD856FBBD5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F4D6-B9C7-4CCD-BDC6-318BD5821BE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387-C5FF-4D07-867F-07068891F26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859D-6478-42A7-A6F4-2364560049C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B761-6E42-4456-A9B4-F108E68857E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B71-7544-43A3-9F51-902B6F68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CBE-F492-456F-906F-1D5E7095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34B-99C1-4B7A-AEC1-99E07813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EAB-A4FA-4DCE-9428-B359C848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6E6B-63C4-46FE-AA23-A848A1A6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4C5B-CA07-4616-8D9F-8F9C348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1EA6-DDD3-4AB9-8384-44A21E8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916D-03A0-4C28-8138-8FED276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C66F-4C47-40BD-AC1C-3007A17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83AA-34E5-425E-A807-12722CAE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6484-5F8D-411D-9347-8203A0F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091-F202-45FF-9E71-B13928F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A7C3-15B0-4F75-B6B1-829BB88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50AE-5167-4BCE-A3E7-24711B97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40A1-4651-472A-AB32-F1806B4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D1B-E062-4CFE-9C46-1144920D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D3EA-E968-4FC2-8E64-1F9238ED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5437B-E57D-41C2-8C27-CF6178D7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65AAF-F269-46B8-929A-9698986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F536E-B691-4AD4-A745-B990CD6B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159DB-0772-45A8-AD2C-32392101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2EADE-B6C6-4C44-A365-5B007715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39D-A504-46F6-953C-8390A8CD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3E1BF-ACAD-4437-879A-BD6AE86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0C8CE-4763-4034-A29C-97BE46B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071AA-6A98-49B9-A1B1-EF1F04B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DF8A7-A47D-42B9-B73D-4934648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6FE65-81AC-43E8-9965-924890DB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ACE58-0B14-45C9-B64F-4F40D51A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A644B-7AE6-4261-9C20-3F022BE5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2A48-C856-46C2-B509-3BA2D3BC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B55C-8409-4E37-8C5D-09EBDBA4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3682-66B3-49BF-8709-E4F0F886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092-B3C0-4610-984F-8EBF38A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8B4F-0783-4195-94FE-FCD9F43D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82ED2-4AE6-49E7-B9DB-C2E2BC6A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EA6E-F472-4067-8279-DC279F1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106C-1D61-4162-B641-F7F43C0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3117-67B4-42DF-B624-6A5CB92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BBFF-4E91-4A8F-BC9B-BC0474C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6F207-DBD1-4C8F-8599-FB78EDE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8820-8CCE-4E0A-8783-CAB16E95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ABC2-626E-4B58-9FDE-A10CD89D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369E1-2472-4E6D-9301-AA947633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13C-2A45-4655-9B02-BF36869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4F0A4-372B-4614-8A48-06B0D999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D29B5-C18F-4A8E-8684-38E72E8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77AB8-7B2C-48C3-9620-4B087363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0068F-E55A-4352-93AC-94B32F17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27BD7-412C-4F5E-903B-C694B34F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7341A-846F-47B1-8D83-BB5C739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AA289-B33D-4033-A877-957651B1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2E456-E33B-4675-8D3E-99E370B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54A9E-3980-43D0-909E-5C6B17A2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B0BDA-217B-4EE7-A2D8-EC89653B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802-EDBC-4058-93C1-D77C7F2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5DB4B-07AE-4835-BB81-5BDAE52E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EC49A-63BC-4421-9D38-D57491A1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0760B-87A7-4262-8E0C-3F0B1B2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0541F-3720-44C6-B277-926CC36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43C89-86E4-47E2-8F75-17430626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1D522-D467-4F4A-9974-4A7F80E6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1F639-CAF7-4182-8BE6-66069637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F44F1-0DF7-4484-9924-5788708F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E621D-8093-460B-B3D9-807D0C72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C657E-3986-4136-9D3F-D06AD48F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3FA-9C6C-4294-B6A2-990DF90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74F55-FDBC-4E1C-B528-45802273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A8298-865E-420C-91A9-56CD5E54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820AD-9DE2-473B-BA53-D3350039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ECBAB-F471-4FD9-9DC3-D246B52B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2C292-0556-4994-9D53-D3B95BE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DAC60-AB72-4AD2-99FE-9D2C600A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DAB69-E566-4801-9434-7083133C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F2C27-55C9-4C4E-940D-106727A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84FE5-93EF-4129-86C2-82CF051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70227-E92F-499F-A686-3BB3C18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EFC-BFC4-4282-B119-7E243BEF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AA72A-386B-46E7-891D-D86EC738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A84CE-D48F-4E47-9B2F-50F5246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092FC-24E3-4C7E-88A2-93789B13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D60F4-20DF-4CC7-BCE7-B0E5FE2B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B16C4-E825-403A-87FE-352FE7F0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436-4565-4C30-9626-41D2A28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79E-E3B1-4452-BDA3-4D06F798C2F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53F-0D2F-4306-A3C7-817F19A265F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30E1-A03E-480E-8754-BDA3E0BE6B7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6C12-37E4-4F06-9A40-03E0DDAA95F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0B00-192C-41DC-9008-23126D7383C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2129-F08E-4EF7-96BE-3A702F79064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4D64-D56E-45B0-B42A-D8433F21C66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84000" y="1341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f497d"/>
                </a:solidFill>
                <a:latin typeface="Century Schoolbook"/>
              </a:rPr>
              <a:t>HIDRATACIÓN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00360" y="50036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ra. Thelma Suau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pto. Ped y cirugia Infantil S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logo U"/>
          <p:cNvPicPr/>
          <p:nvPr/>
        </p:nvPicPr>
        <p:blipFill>
          <a:blip r:embed="rId1"/>
          <a:stretch/>
        </p:blipFill>
        <p:spPr>
          <a:xfrm>
            <a:off x="5508720" y="3068640"/>
            <a:ext cx="806400" cy="15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ttp://t1.gstatic.com/images?q=tbn:ANd9GcRSk28m57rCwmeP74VLZyQOOyysF7QyUQ6GxcwGln-tt6wn5gHDhg"/>
          <p:cNvPicPr/>
          <p:nvPr/>
        </p:nvPicPr>
        <p:blipFill>
          <a:blip r:embed="rId2"/>
          <a:stretch/>
        </p:blipFill>
        <p:spPr>
          <a:xfrm>
            <a:off x="900000" y="333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a forma de calcular la necesidad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uperficie corpor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PESO X 4)+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PESO + 90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requiere del conocimiento del peso y talla para su cálculo 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utilización de tabla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e utiliza de preferencia en pacientes mayores de 20 Kg. Y se estiman como entre 1.800 a 2000 ml/m² s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entury Schoolbook"/>
              </a:rPr>
              <a:t>APORTE VOLUMEN HOLLIDAY V/S SC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93080" cy="5113440"/>
          </a:xfrm>
          <a:prstGeom prst="rect">
            <a:avLst/>
          </a:prstGeom>
          <a:ln w="0">
            <a:noFill/>
          </a:ln>
        </p:spPr>
      </p:pic>
      <p:sp>
        <p:nvSpPr>
          <p:cNvPr id="385" name="3 Flecha arriba"/>
          <p:cNvSpPr/>
          <p:nvPr/>
        </p:nvSpPr>
        <p:spPr>
          <a:xfrm>
            <a:off x="2587680" y="3860640"/>
            <a:ext cx="243000" cy="97812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CALCULO VELOCIDAD INFUS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2 Marcador de contenido" descr=""/>
          <p:cNvPicPr/>
          <p:nvPr/>
        </p:nvPicPr>
        <p:blipFill>
          <a:blip r:embed="rId1"/>
          <a:stretch/>
        </p:blipFill>
        <p:spPr>
          <a:xfrm>
            <a:off x="365040" y="16034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OLLI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mayor 1 año  6 meses, peso 11,5 K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x 10 =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,5 x 50  =     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 10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5 GOTAS POR MI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125000"/>
            <a:ext cx="3657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PERFICIE CORP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11,5 X 4) +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: 1800- 2000 X 0,5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940 – 104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3 – 14 GOTAS/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entury Schoolbook"/>
              </a:rPr>
              <a:t>REQUERIMIENTOS DE ELECTROLITOS: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Na+ 3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K+ 2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Cl- 5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" descr="C:\Documents and Settings\thelma\Mis documentos\Documentos Thelma\CLASES\libro_transtornos_clinicos_de_agua_electrolitos_grd.jpg"/>
          <p:cNvPicPr/>
          <p:nvPr/>
        </p:nvPicPr>
        <p:blipFill>
          <a:blip r:embed="rId1"/>
          <a:stretch/>
        </p:blipFill>
        <p:spPr>
          <a:xfrm>
            <a:off x="5796000" y="1844640"/>
            <a:ext cx="2395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DEFICIT - DES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844640"/>
          <a:ext cx="7848720" cy="4227480"/>
        </p:xfrm>
        <a:graphic>
          <a:graphicData uri="http://schemas.openxmlformats.org/drawingml/2006/table">
            <a:tbl>
              <a:tblPr/>
              <a:tblGrid>
                <a:gridCol w="2052720"/>
                <a:gridCol w="1541160"/>
                <a:gridCol w="2086200"/>
                <a:gridCol w="2168640"/>
              </a:tblGrid>
              <a:tr h="40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: le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: moder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I: se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gor y elasti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d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y 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r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a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an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ón o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os hun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3251520" y="597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gnos y Síntomas según grado de deshid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DEFICIT SEGÚN PERDIDA DE PE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844640"/>
          <a:ext cx="7529400" cy="3024360"/>
        </p:xfrm>
        <a:graphic>
          <a:graphicData uri="http://schemas.openxmlformats.org/drawingml/2006/table">
            <a:tbl>
              <a:tblPr/>
              <a:tblGrid>
                <a:gridCol w="3456000"/>
                <a:gridCol w="2089080"/>
                <a:gridCol w="1984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HIDRATA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DE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V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2" name="Picture 2" descr="C:\Documents and Settings\thelma\Mis documentos\Documentos Thelma\CLASES\deshidratacion21.jpg"/>
          <p:cNvPicPr/>
          <p:nvPr/>
        </p:nvPicPr>
        <p:blipFill>
          <a:blip r:embed="rId1"/>
          <a:stretch/>
        </p:blipFill>
        <p:spPr>
          <a:xfrm>
            <a:off x="539640" y="836640"/>
            <a:ext cx="3024360" cy="39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thelma\Mis documentos\Documentos Thelma\CLASES\DESHIDRATMOD.jpg"/>
          <p:cNvPicPr/>
          <p:nvPr/>
        </p:nvPicPr>
        <p:blipFill>
          <a:blip r:embed="rId2"/>
          <a:stretch/>
        </p:blipFill>
        <p:spPr>
          <a:xfrm>
            <a:off x="3564000" y="549360"/>
            <a:ext cx="42069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Documents and Settings\thelma\Mis documentos\Documentos Thelma\CLASES\deshid grave.jpg"/>
          <p:cNvPicPr/>
          <p:nvPr/>
        </p:nvPicPr>
        <p:blipFill>
          <a:blip r:embed="rId3"/>
          <a:stretch/>
        </p:blipFill>
        <p:spPr>
          <a:xfrm>
            <a:off x="3635280" y="3357720"/>
            <a:ext cx="4249800" cy="322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entury Schoolbook"/>
              </a:rPr>
              <a:t>EL AGUA ES VIDA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3" name="6 Marcador de contenido" descr="desierto.jpg"/>
          <p:cNvPicPr/>
          <p:nvPr/>
        </p:nvPicPr>
        <p:blipFill>
          <a:blip r:embed="rId1"/>
          <a:stretch/>
        </p:blipFill>
        <p:spPr>
          <a:xfrm>
            <a:off x="468360" y="1628640"/>
            <a:ext cx="3510000" cy="2351160"/>
          </a:xfrm>
          <a:prstGeom prst="rect">
            <a:avLst/>
          </a:prstGeom>
          <a:ln w="0">
            <a:noFill/>
          </a:ln>
        </p:spPr>
      </p:pic>
      <p:pic>
        <p:nvPicPr>
          <p:cNvPr id="364" name="7 Marcador de contenido" descr="desierto florido.jpg"/>
          <p:cNvPicPr/>
          <p:nvPr/>
        </p:nvPicPr>
        <p:blipFill>
          <a:blip r:embed="rId2"/>
          <a:stretch/>
        </p:blipFill>
        <p:spPr>
          <a:xfrm>
            <a:off x="4270320" y="2685960"/>
            <a:ext cx="3657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PERDIDAS PATOLOG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3360"/>
          <a:ext cx="7488360" cy="4863960"/>
        </p:xfrm>
        <a:graphic>
          <a:graphicData uri="http://schemas.openxmlformats.org/drawingml/2006/table">
            <a:tbl>
              <a:tblPr/>
              <a:tblGrid>
                <a:gridCol w="2868840"/>
                <a:gridCol w="2333520"/>
                <a:gridCol w="2286000"/>
              </a:tblGrid>
              <a:tr h="27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na Ra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ubadora (RN 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ad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ilador humid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queost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TO GASTRO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m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ión de 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/An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CELA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enaje quirúr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er espa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DE ADMINISTR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: Reg 0, deshidratación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Grado de deshidrat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Osmola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s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ndemnidad de la función re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s de Gastroenteritis Aguda estudios demuestran que el aporte por vía oral a través de Gastroclisis, sonda nasogástrica son mejor tolerados y pueden reponer el déficit en pocas horas (4 HORAS), lo que evitaría la hospital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n Sales de Rehidratación con Na⁺ 45 – 60 meq/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1f497d"/>
                </a:solidFill>
                <a:latin typeface="Century Schoolbook"/>
              </a:rPr>
              <a:t>HIDRATACION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1855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lucosa 111 mM/L (20 g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odio 90 mEq/L (lactantes sodio 45-60mEq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tasio 2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itrato 3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ruro 8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43000" y="1752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LUCION 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e puede ser calculado en deshidratación leve o moderada de la siguiente form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Hidratación límite o deshidratación lev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-10 ml/k después de cada deposi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5ml  a 10 ml o 1 -2 cucharada cada 5 minutos administrar en 2 a 4 hor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2 ml/K después de cada vómi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leve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50cc/K = 415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5cc (60cc/hr) a 10 cc (120cc/hr) cada 5 minutos por 4 horas =  240cc a 48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 – 15 cc/K (83 - 124 cc) por 4 horas = 330 - 498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eshidratación Moderad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50 – 100 ml/K/hr administrar en 2  a 4 ho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20 ml o 4 cucharada cada 5 minutos (240 cc/h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Si no tolera, administrar bolo Suero Fisiológico 20cc/K y continuar con aporte ví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moderado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100 cc/K = 83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15cc (180cc/hr) a 20 cc (240 cc/hr) cada 5 minutos por 4 horas =  720cc a 96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– 30 cc/K (166 -  249 cc) por 4 horas = 664 - 996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hospitalizados se ha preferido la utilización de la vía parenteral que permite un aporte directo al intravascula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 en el caso de  pacientes, en cond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h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shidratados sever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prometidos de concienc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le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 ayun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AGUA ES EL PRINCIPAL COMPONENTE DEL ORGANISM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395280" y="2278080"/>
          <a:ext cx="8345520" cy="33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8080"/>
                    <a:ext cx="83455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55640" y="1901880"/>
          <a:ext cx="6718320" cy="4041720"/>
        </p:xfrm>
        <a:graphic>
          <a:graphicData uri="http://schemas.openxmlformats.org/drawingml/2006/table">
            <a:tbl>
              <a:tblPr/>
              <a:tblGrid>
                <a:gridCol w="843120"/>
                <a:gridCol w="1365120"/>
                <a:gridCol w="944640"/>
                <a:gridCol w="1363680"/>
                <a:gridCol w="2201760"/>
              </a:tblGrid>
              <a:tr h="102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.  PATOLO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.: Pacte. de 10 K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  L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ó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(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500 + 300 =   18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 Mode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 (10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4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000 + 400 = 2.4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(1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500 + 400 = 2.9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39"/>
          <p:cNvSpPr/>
          <p:nvPr/>
        </p:nvSpPr>
        <p:spPr>
          <a:xfrm>
            <a:off x="755640" y="1281600"/>
            <a:ext cx="60483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culo de aporte de volumen seg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grado de deshidrataci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administra la mitad del volumen en las primeras 8 horas y el resto en las próximas 16 horas. O se calcula en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os en urgencia recuperan déficit en 4 hrs. Y realiment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la rehidratación debe evaluarse clínicamente de manera continua y reevaluar el aporte si es neces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en deshidrataciones hipertónicas la reposición del déficit debe ser más lenta y por tanto se calcula la mitad del déficit para las primeras 24 hora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compromiso hemodinámico o shock se debe administrar bolos de Sol. Fisiológica 20cc/K en 20 minutos, repetir hasta lograr mejoría en estado hemodinám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no recuperar presiones puede administrarse soluciones coloidales y luego instalar CVC para administrar drogas vasoac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TIPO DE FLUIDO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sanos la administración de fluidos endovenosos debería ser dado en solución salina (Suero fisiológico 0,9%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ₒ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reparados con glucosa 5% + electrolitos (Na⁺ 70meq/lt + K⁺ si la función renal está conservada) esto último para asegurar aporte de glucosa a nivel cerebral, disminuir el catabolismo proteico y evitar la cetoacidosi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ar soluciones bajas en electrolitos y mantenidas en el tiempo, contribuye a aumentar el riesgo de hiponatrem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EPARADOS DE NAC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1 g de NaCl aporta 17 mEq de Na y 17 mEq de C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Usamos NaCl 10%, o sea que en l0 cc de NaCl 10% tenemos 1 g de este compuesto, vale decir 17 mEq de Na (1,7 mEq/ml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10 cc de NaCl 10% en 500 cc de solución glucosada 5%, estamos poniendo 17 mEq de sodio en medio litro de solución, o sea, 34 mEq en 1 li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20 cc NaCl 10% en 1000cc de SG 5%, aportaremos 68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SOLUCIONES SEGÚN TIPO OSMO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Tonicidad de la solución según tipo osmol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Desh. hipertónica (natremia &gt;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30 - 4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isotónica (natremia 130 -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50 - 6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(natremia 120 - 13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70 - 8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severa (natremia &lt; 120):Tonic. 80 - 10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IMERA PART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4" name="6 Marcador de posición de imagen" descr="http://2.bp.blogspot.com/-MoWk1mUF5Jk/UZpPQHZneQI/AAAAAAAAA6U/QSsZv0802D8/s1600/breakandcontinue.jpg"/>
          <p:cNvPicPr/>
          <p:nvPr/>
        </p:nvPicPr>
        <p:blipFill>
          <a:blip r:embed="rId1"/>
          <a:stretch/>
        </p:blipFill>
        <p:spPr>
          <a:xfrm>
            <a:off x="1476360" y="1484280"/>
            <a:ext cx="5165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TOMAMOS FELICES!!!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3 Imagen" descr="http://pensamientospositivos9.files.wordpress.com/2011/08/r-positivo-_1.jpeg?w=300&amp;h=200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KALEMIA sobre 5,5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´CAUS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emóli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idosis metaból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uficiencia Renal 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oaldosteronismo (HSRC perdedora de s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ármacos: (-) ECA, AI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Rectángulo"/>
          <p:cNvSpPr/>
          <p:nvPr/>
        </p:nvSpPr>
        <p:spPr>
          <a:xfrm>
            <a:off x="539640" y="90792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la cantidad de un sustrato o nutriente que asegura la integridad y  buen funcionamiento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 BASAL: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el requerimiento de un individuo en condiciones metabólicas ba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COMEND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es una cantidad mayor que el requerimiento y que pretende asegurar un adecuado aporte a los individuos de una población, considerando la variabilidad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TAMIENTO: Monitorización UPC o U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sinas de Intercambio Ionico: Kayexe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gr/K rectal u oral diluido el glu HT (30 o 50%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luconato de Calcio ev lento 1cc/k en 30 minutos, seguido d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&lt;bicarbonato de Na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1 meq/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lucosa + Insul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lt; 135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atrogen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sminución del volumen circulante: pérdidas gastrointestinales (diarrea, vómitos), Dérmicas FQ), Renales (Nefropatía perdedora de sal, diuréticos, hipoaldosteronismo, Estado edematoso (I. Crdíaca, cirrosis, Sd. Nefrót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uréticos tiazíd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. Renal: Ag y C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xceso ADH (Secreción inapropiad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hay compromiso neurológico (cefalea, náuseas, CEG, letargia, convulsion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olución Salina HT 3% (NaCl 10% diluído 1/3 + 2/3 SG 5%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Objetivo llevar Natremia a 125 meq/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éficit= (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eado - Na⁺ actual)x 0,3x pe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BIC     1-2meq/lt/h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dealmente el  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no debe ser mayor a 10-15meq/d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no hay compromiso neurológico no requiere corrección con solución salina 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050920" y="371628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2771640" y="4220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ER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 145-15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de agua lib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ner el 50% del déficit en las primeras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iendo del valor de 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rregir con soluciones 40-30-2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velocidad de corrección no &gt; 1 meq/Hr o 15 meq/24 h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CAPITULEM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8380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CID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stado fisiopatológic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hay más ácido 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enos base de l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LCAL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ay más base o menos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de lo 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Century Schoolbook"/>
              </a:rPr>
              <a:t>ALTERACIONES ÁCIDO - BÁSICAS: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Des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Parcialmente 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27"/>
          <p:cNvSpPr/>
          <p:nvPr/>
        </p:nvSpPr>
        <p:spPr>
          <a:xfrm>
            <a:off x="942480" y="1600200"/>
            <a:ext cx="698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+   H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+ 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516040" y="1981080"/>
            <a:ext cx="1904760" cy="152280"/>
            <a:chOff x="2516040" y="1981080"/>
            <a:chExt cx="1904760" cy="152280"/>
          </a:xfrm>
        </p:grpSpPr>
        <p:sp>
          <p:nvSpPr>
            <p:cNvPr id="468" name="Line 1029"/>
            <p:cNvSpPr/>
            <p:nvPr/>
          </p:nvSpPr>
          <p:spPr>
            <a:xfrm>
              <a:off x="2516040" y="1981080"/>
              <a:ext cx="19047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 flipH="1">
              <a:off x="2591640" y="2133360"/>
              <a:ext cx="175284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Line 1033"/>
          <p:cNvSpPr/>
          <p:nvPr/>
        </p:nvSpPr>
        <p:spPr>
          <a:xfrm flipH="1" flipV="1">
            <a:off x="1448280" y="2502000"/>
            <a:ext cx="2160" cy="11080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34"/>
          <p:cNvSpPr/>
          <p:nvPr/>
        </p:nvSpPr>
        <p:spPr>
          <a:xfrm flipH="1" flipV="1">
            <a:off x="1600560" y="2549520"/>
            <a:ext cx="2160" cy="11080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2"/>
          <p:cNvSpPr txBox="1"/>
          <p:nvPr/>
        </p:nvSpPr>
        <p:spPr>
          <a:xfrm>
            <a:off x="609480" y="2895480"/>
            <a:ext cx="1781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osis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5943600" y="2971800"/>
            <a:ext cx="1876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calosis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3276720" y="12952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abóli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3124080" y="4591080"/>
            <a:ext cx="21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piratoria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AutoShape 6"/>
          <p:cNvSpPr/>
          <p:nvPr/>
        </p:nvSpPr>
        <p:spPr>
          <a:xfrm rot="19884600">
            <a:off x="1905120" y="22856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 rot="2404800">
            <a:off x="1790280" y="39240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rot="8585400">
            <a:off x="5029200" y="41140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 rot="13384200">
            <a:off x="5105520" y="22089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Sin título2"/>
          <p:cNvPicPr/>
          <p:nvPr/>
        </p:nvPicPr>
        <p:blipFill>
          <a:blip r:embed="rId1"/>
          <a:stretch/>
        </p:blipFill>
        <p:spPr>
          <a:xfrm>
            <a:off x="380880" y="700200"/>
            <a:ext cx="85345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CONTROL DE LA OSMOLARIDAD PLASMÁTICA Y DEL VOLUMEN INTRAVASCU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2349000"/>
            <a:ext cx="74674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H:  AUMENTO DE OSMOLARIDAD, EN TUBULO COLECTOR PRODUCE APERTURA CANALES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D: ESTIMULADA POR OSMORECEPT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Y BARORECEP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MBOS MECANISMOS LLEVAN A UN AUMENTO DEL AGUA Y DISMINUCION OSMO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26" descr="Sin título3"/>
          <p:cNvPicPr/>
          <p:nvPr/>
        </p:nvPicPr>
        <p:blipFill>
          <a:blip r:embed="rId1"/>
          <a:stretch/>
        </p:blipFill>
        <p:spPr>
          <a:xfrm>
            <a:off x="304920" y="1028880"/>
            <a:ext cx="8426160" cy="54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in título1"/>
          <p:cNvPicPr/>
          <p:nvPr/>
        </p:nvPicPr>
        <p:blipFill>
          <a:blip r:embed="rId1"/>
          <a:stretch/>
        </p:blipFill>
        <p:spPr>
          <a:xfrm>
            <a:off x="1066680" y="173160"/>
            <a:ext cx="69343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GASES EN SANGR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H: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informa sobre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hidrogeni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CO</a:t>
            </a:r>
            <a:r>
              <a:rPr b="0" lang="es-MX" sz="1400" spc="-1" strike="noStrike">
                <a:solidFill>
                  <a:srgbClr val="ff3300"/>
                </a:solidFill>
                <a:latin typeface="Century Schoolbook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informa sobre el component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respirato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Déficit de base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informa sobre el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omponente metaból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Bicarbonato estándar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es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bicarbonato que existiría con una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PCO2 de 40 mm H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1 gramo de bicarbonato de sodio aporta 11,9 mEq de ion sodio y 11,9 mEq de ion    bicarbo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/6 M: 0,1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2/3 M: 0,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5%: 0,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Bicarbonato 8,4%: 1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0%: 1,2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CÁLCULO DE BICARBONA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.B. X peso del paciente X 0,6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(de esta cantidad se aporta sólo la mitad en las primeras 24 hor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3 a 5 mEq/K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CORRECCIÓN ACIDOSI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H &lt; 7,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icarbonato st &lt; 12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 valores mayores si hay pérdidas aumentadas y manteni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D los valores son: pH &lt;6,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Al corregir acidosis con bicarbonato se modifica concentración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otas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K+ vuelve al compartimiento intracelular. Potasio corregido se obtiene restando 0,6 mEq por cada décima de pH que se corri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Calc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a++ vuelve a hueso. Corrección rápida lleva a riesgo de hipocalcem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195280" y="44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entury Schoolbook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5" name="Picture 1" descr="C:\Documents and Settings\thelma\Mis documentos\Documentos Thelma\CLASES\NIÑOS.jpg"/>
          <p:cNvPicPr/>
          <p:nvPr/>
        </p:nvPicPr>
        <p:blipFill>
          <a:blip r:embed="rId1"/>
          <a:stretch/>
        </p:blipFill>
        <p:spPr>
          <a:xfrm>
            <a:off x="1908000" y="549360"/>
            <a:ext cx="63597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REGULACION DEL VOLUMEN INTRAVASCULAR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alance de Sodio (Na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 consumo y la excreción ocurre a nivel renal, este a su vez depende de la filtración glomerular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úbulo proximal se reabsorbe el 65% del Na⁺ filtrado, el resto se reabsorbe en el asa de Henle y finalmente a nivel del túbulo distal por acción de aldosterona que produce reabsorción de Na⁺ y excreción de Potasio (K⁺)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ualquier cambio en estos factores llevará a un aumento o disminución en la concentración de Na⁺ y/o K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C:\Documents and Settings\thelma\Mis documentos\Documentos Thelma\CLASES\bebes_necesitan_beber_agua.jpg"/>
          <p:cNvPicPr/>
          <p:nvPr/>
        </p:nvPicPr>
        <p:blipFill>
          <a:blip r:embed="rId1"/>
          <a:stretch/>
        </p:blipFill>
        <p:spPr>
          <a:xfrm>
            <a:off x="5867280" y="220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700280"/>
            <a:ext cx="7467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necesidades basales de agua están dadas p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s pérdidas insensibles (piel, pulmones)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érdidas obligadas por orina y deposiciones 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or la actividad dinámica específic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dicionalmente se ha utilizado la fórmula de Holliday que permite el rápido cálculo de volumen  y homologa el gasto calórico a las necesidades de agua y se calcula según lo siguie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ml o kcal/Kg los primero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0 ml o Kcal/Kg los siguientes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ml o kcal/Kg desde los 20 Kg en adel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0:21:01Z</dcterms:created>
  <dc:creator>Valued Packard Bell Customer</dc:creator>
  <dc:description/>
  <dc:language>en-US</dc:language>
  <cp:lastModifiedBy>Usuario</cp:lastModifiedBy>
  <dcterms:modified xsi:type="dcterms:W3CDTF">2015-04-17T02:04:10Z</dcterms:modified>
  <cp:revision>48</cp:revision>
  <dc:subject/>
  <dc:title>Diapositiva 1</dc:title>
</cp:coreProperties>
</file>